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B4862E-3737-4379-894D-418CCF819C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F6F9D5-B18A-4952-ACC0-5D56F5FB0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568E9E-AE86-46FA-B00F-B3354E9FA1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24E1FF-E344-493B-8BE5-6E86103212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FEC2E-8A2D-4AE8-8E24-7C8B2EF94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9AE08-2B3B-499A-8CBA-CBE5CB6C3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C5806-5AEF-47A6-9ED2-5D72D94D1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1F37C-2EC1-4FB6-A8D4-6CD25E860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19CC1-5F6B-4055-8FA8-05706D37C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90D0B-A4A5-410B-9D83-28FDB4892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A7786-0EFA-4775-8F10-5FD0E882F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06161D-4D87-452A-93C5-CBFE33BE5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35A73-67FF-48ED-8D6E-E9255DF30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C4288-1DA9-45C7-A5A0-FA73C6B57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876AC-5D70-4CC5-994E-88CB3AA5D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635FE-8188-45C7-9F15-50D9BC8A4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0289D-61E9-45B8-B603-668064D59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069C83-12BA-4075-854F-3F25F8D76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5E785C-CE80-432C-A79B-2058789CA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630058-A7A4-4C6D-9F97-57C0787E3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FCE2C3-BC92-4C95-9B27-41622BE64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9BD77F-3D5B-4400-891A-BA97503212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6940B5-49AD-4585-BFD9-E85C25C58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DD922E-BE9B-4555-8041-BF93745048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C8EC-7025-47EC-9021-467C184247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02C2-3615-4D14-8D61-17212CAA41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ftware Quality Assuranc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4</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34934C0-0BB4-45AB-B599-7085A49EA0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in Six</a:t>
            </a:r>
            <a:br>
              <a:rPr sz="4400"/>
            </a:br>
            <a:r>
              <a:rPr b="0" lang="en-US" sz="4400" spc="-1" strike="noStrike">
                <a:solidFill>
                  <a:srgbClr val="000000"/>
                </a:solidFill>
                <a:latin typeface="Arial"/>
              </a:rPr>
              <a:t>Sub- Industries</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software that controls physical devices</a:t>
            </a:r>
            <a:endParaRPr b="0" lang="en-US" sz="2800" spc="-1" strike="noStrike">
              <a:solidFill>
                <a:srgbClr val="000000"/>
              </a:solidFill>
              <a:latin typeface="Arial"/>
            </a:endParaRPr>
          </a:p>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systems that companies build for their own use</a:t>
            </a:r>
            <a:endParaRPr b="0" lang="en-US" sz="2800" spc="-1" strike="noStrike">
              <a:solidFill>
                <a:srgbClr val="000000"/>
              </a:solidFill>
              <a:latin typeface="Arial"/>
            </a:endParaRPr>
          </a:p>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ource or contract software built for clients</a:t>
            </a:r>
            <a:endParaRPr b="0" lang="en-US" sz="2800" spc="-1" strike="noStrike">
              <a:solidFill>
                <a:srgbClr val="000000"/>
              </a:solidFill>
              <a:latin typeface="Arial"/>
            </a:endParaRPr>
          </a:p>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 software built by vendors for lease or sale</a:t>
            </a:r>
            <a:endParaRPr b="0" lang="en-US" sz="2800" spc="-1" strike="noStrike">
              <a:solidFill>
                <a:srgbClr val="000000"/>
              </a:solidFill>
              <a:latin typeface="Arial"/>
            </a:endParaRPr>
          </a:p>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software built following various military standards</a:t>
            </a:r>
            <a:endParaRPr b="0" lang="en-US" sz="2800" spc="-1" strike="noStrike">
              <a:solidFill>
                <a:srgbClr val="000000"/>
              </a:solidFill>
              <a:latin typeface="Arial"/>
            </a:endParaRPr>
          </a:p>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user software built for private use by computer literate workers or manage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D3FE1C-3C84-42AE-BB58-279736A940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Quality Laggards</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now discuss the characteristics of companies, which produce poor quality softwa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E68845-B11C-4E4F-BF24-69F05BFD6A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Laggards - 1</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oftware quality measurement program of any ki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usage of formal design and code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knowledge of the concepts  of defect potentials and defect removal efficien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549186-8C35-4CE0-BEAB-7360336F96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Laggards - 2</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ther no quality assurance group or a group that is severely understaffed</a:t>
            </a:r>
            <a:endParaRPr b="0" lang="en-US" sz="3200" spc="-1" strike="noStrike">
              <a:solidFill>
                <a:srgbClr val="000000"/>
              </a:solidFill>
              <a:latin typeface="Arial"/>
            </a:endParaRPr>
          </a:p>
          <a:p>
            <a:pPr marL="335880" indent="-3358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trained testing specialists available</a:t>
            </a:r>
            <a:endParaRPr b="0" lang="en-US" sz="3600" spc="-1" strike="noStrike">
              <a:solidFill>
                <a:srgbClr val="000000"/>
              </a:solidFill>
              <a:latin typeface="Arial"/>
            </a:endParaRPr>
          </a:p>
          <a:p>
            <a:pPr marL="335880" indent="-3358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w or no automated quality assurance tools</a:t>
            </a:r>
            <a:endParaRPr b="0" lang="en-US" sz="3600" spc="-1" strike="noStrike">
              <a:solidFill>
                <a:srgbClr val="000000"/>
              </a:solidFill>
              <a:latin typeface="Arial"/>
            </a:endParaRPr>
          </a:p>
          <a:p>
            <a:pPr marL="335880" indent="-3358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quality and reliability estimation capability</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A31AE516-C5A2-4A4E-B878-9F5F4C4A21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Laggards - 3</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nimal or no software project management tools available</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automated risk assessment or avoidance capability</a:t>
            </a:r>
            <a:endParaRPr b="0" lang="en-US" sz="36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 low of one to a high of perhaps four distinct testing stag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203259-7005-4F85-BA9F-9B94CC6D4A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Laggards - 4</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est library or test-case management tools avail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mplexity analysis tools utiliz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potentials averaging more than 6 defects per function poi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C30024-E6B5-4D8E-92C5-0199E9A034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Laggards - 5</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moval efficiency averaging less than 8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and managerial indifference (and ignorance) of quality mat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CFF68D-E6F8-40ED-94FD-E4A836FDF8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Related Issues</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 morale and voluntary attri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shares and competitive position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igation and product recal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3FE6ED-AE4B-4502-A5A5-37E3CC4B75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laggards are the very companies with highest probability of cancelled projects, several schedule overruns, and severe overrun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 coincidence that software groups among the quality laggards also tend to be candidates for immediate replacement by outsource organiz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7EDFC5-EA0D-4EE9-BA68-44A23E7444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now discuss the reverse of the practices of the quality laggar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discuss the quality attributes, which when exhibited will result in high quality softwa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DCBBF8-2907-4A56-BC64-E9800CA40F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poor software qua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quality laggard compan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ttribut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50822D-9633-4EA7-8F05-52621543FB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Attributes</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ttributes set is a way to represent customer quality requir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 current and prospective customers about their definition of qua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quality assurance program based on the requirements of your custom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42DF13-B0E4-44EC-8883-58203C1538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Quality Attributes</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pecific quality attribu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pecific quality attribut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E918C7-9871-4A7F-ABE1-F00D402CBA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ecific Attributes - 1</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e of use</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tolerance</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frequency</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9410C9-77A7-4C89-A619-24E4E62651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ecific Attributes - 2</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impact</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aging</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versus reliability</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19EE65-9B7E-48E9-A858-645F901018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pecific Attribute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and supp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proces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FE33DF-14C3-4931-93D8-ADDFB00D38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hieving High Levels of Software Quality - 1</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prise-wide quality progra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wareness and training metho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standards and guideli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nalysis metho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measurement metho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706006-950E-4B4A-9AF1-993B55803E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hieving High Levels of Software Quality - 2</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prevention metho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test defect removal metho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metho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atisfaction metho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release quality contro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F477D1-2CE2-4BA0-9BDB-E605F1A3D0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in Class Quality Results - 1</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measur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preven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and quality estimation autom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tracking autom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analysis to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1E392B-6DB3-46D9-ABA1-AB1C0F93F6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in Class Quality Results - 2 </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coverage analysis too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inspe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testing by test speciali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quality assurance grou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and managerial understanding of qua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568243-5724-41F5-84BA-826C47F53C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Components of</a:t>
            </a:r>
            <a:br>
              <a:rPr sz="4400"/>
            </a:br>
            <a:r>
              <a:rPr b="0" lang="en-US" sz="4400" spc="-1" strike="noStrike">
                <a:solidFill>
                  <a:srgbClr val="000000"/>
                </a:solidFill>
                <a:latin typeface="Arial"/>
              </a:rPr>
              <a:t>Software Quality Improvement</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s in total defect potentials using methods of defect preven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s in cumulative removal efficiency leve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5C8D9D-E261-46E6-8596-8F62AFE830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reasons for having high quality software have been discussed in the first lecture of this course, and so it should be well understood now why software products and services should have high quality</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egative consequences for poor or bad quality softwa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A13ED8-A791-482A-BEFA-D99AA702C9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Analysis and Guidelines for Success by Capers J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Oriented Software Quality Assurance by Frank Gina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64360C-8A09-4399-AAEC-C2F6BB0209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till we see that the software industry still suffers from problems related to software qua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ll look at six root causes of poor software quality, and discuss them in detai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C4706A-03D3-4A38-A995-558D172437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t Causes of Poor Software Quality - 1</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dequate training of managers and staf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dequate defect and cost measur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schedule press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C9110B-2E1C-4CEA-BA7B-3C2CF62610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ot Causes of Poor Software Quality - 2</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fficient defect remov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mplexity lev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iguous and creeping requirements and design (</a:t>
            </a:r>
            <a:r>
              <a:rPr b="0" i="1" lang="en-US" sz="3200" spc="-1" strike="noStrike">
                <a:solidFill>
                  <a:srgbClr val="000000"/>
                </a:solidFill>
                <a:latin typeface="Arial"/>
              </a:rPr>
              <a:t>feature race &amp; gimmick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BC0C74-EDAA-440E-AEA9-EEB97E1857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just finished the discussion on root causes of poor software qua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et us look at the status of the software industry’s seriousness of the software industry with respect to the software quality assur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C18D0A-C851-44A1-81A0-FD9C61AAD8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Assurance Organizations</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quality assuran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ken quality assuran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ive quality assuran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quality assuran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5%</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6B0A41-4422-4765-A2A8-347FBBEEB3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nother point that must be remembered that software varies from industry to industr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cus on software quality naturally is dependent on the industry, as well as the importance of the software application. More critical applications, naturally, need to have higher software quality than oth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A23BFE-46B0-49ED-B216-387D5A8CA1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09:03:38Z</dcterms:created>
  <dc:creator>Ghulam Ahmad Farrukh</dc:creator>
  <dc:description/>
  <dc:language>en-US</dc:language>
  <cp:lastModifiedBy>ahmadmohsin</cp:lastModifiedBy>
  <dcterms:modified xsi:type="dcterms:W3CDTF">2009-04-14T04:36:11Z</dcterms:modified>
  <cp:revision>207</cp:revision>
  <dc:subject/>
  <dc:title>Software Quality Management</dc:title>
</cp:coreProperties>
</file>